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96F-87D1-4A3E-8B42-57E637C1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FEF-096D-461C-941E-E85C7EF0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908-293B-4204-8988-223C8AA0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D6F-805E-4A98-9CA6-01746B15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2D4-37C1-436F-B864-1675DA48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AF39-40E0-40B4-B144-EF01E76A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00F-8D39-49E8-8256-6C057D99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A53C-CD18-4579-89A2-D636C5B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99E5-1F46-492E-A5EF-09DA850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ADB-1D0D-4CFF-A1BC-3C0E18F7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FE19-892A-4345-AC3F-E485DBA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EE8-D476-400B-AC9C-75B4D7C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C23-53B3-4EAC-A0CD-8B1AB9E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F224-DBD9-43EF-B43D-BCBDE5DC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9606-280E-4687-A0CD-1E81CD8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1BA-F15F-4DCF-AF05-71293A40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94B8-6544-4DBC-B595-0C73E8BA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80C-B4FB-4021-90AA-5BA4BD0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57D-104B-40D0-AF05-5613E59C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CAC-5567-4CB7-A1EE-45181DA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1FB-7FE0-41A1-B0D8-FB878BB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AD2-7A0C-41B0-9CC9-023170C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99E-C774-48F5-9BEE-8B5357F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447-5952-4ECC-85D0-442A27D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A824-B410-4EC5-86DA-DADCD2650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0FF-48BE-4BBB-B904-23E08B52779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ing and Dividing Monomi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 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6668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 -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62520" y="3352680"/>
            <a:ext cx="838080" cy="1323000"/>
            <a:chOff x="3962520" y="3352680"/>
            <a:chExt cx="838080" cy="1323000"/>
          </a:xfrm>
        </p:grpSpPr>
        <p:sp>
          <p:nvSpPr>
            <p:cNvPr id="160" name=""/>
            <p:cNvSpPr/>
            <p:nvPr/>
          </p:nvSpPr>
          <p:spPr>
            <a:xfrm>
              <a:off x="3962520" y="3352680"/>
              <a:ext cx="838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384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2666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581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038480" y="3276720"/>
            <a:ext cx="685800" cy="1323000"/>
            <a:chOff x="4038480" y="3276720"/>
            <a:chExt cx="685800" cy="1323000"/>
          </a:xfrm>
        </p:grpSpPr>
        <p:sp>
          <p:nvSpPr>
            <p:cNvPr id="168" name=""/>
            <p:cNvSpPr/>
            <p:nvPr/>
          </p:nvSpPr>
          <p:spPr>
            <a:xfrm>
              <a:off x="4038480" y="3276720"/>
              <a:ext cx="685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3886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86000" y="4800600"/>
            <a:ext cx="3096000" cy="1262160"/>
            <a:chOff x="2286000" y="4800600"/>
            <a:chExt cx="3096000" cy="1262160"/>
          </a:xfrm>
        </p:grpSpPr>
        <p:sp>
          <p:nvSpPr>
            <p:cNvPr id="171" name=""/>
            <p:cNvSpPr/>
            <p:nvPr/>
          </p:nvSpPr>
          <p:spPr>
            <a:xfrm>
              <a:off x="2286000" y="4800600"/>
              <a:ext cx="22860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swer: </a:t>
              </a:r>
              <a:r>
                <a:rPr b="0" lang="en-US" sz="2800" spc="-1" strike="noStrike">
                  <a:solidFill>
                    <a:srgbClr val="00e4a8"/>
                  </a:solidFill>
                  <a:latin typeface="Arial"/>
                </a:rPr>
                <a:t>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6120" y="5029200"/>
              <a:ext cx="8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r>
                <a:rPr b="0" lang="en-US" sz="32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410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38680" y="4724280"/>
            <a:ext cx="1752840" cy="2064600"/>
            <a:chOff x="5638680" y="4724280"/>
            <a:chExt cx="1752840" cy="2064600"/>
          </a:xfrm>
        </p:grpSpPr>
        <p:sp>
          <p:nvSpPr>
            <p:cNvPr id="175" name=""/>
            <p:cNvSpPr/>
            <p:nvPr/>
          </p:nvSpPr>
          <p:spPr>
            <a:xfrm>
              <a:off x="6095880" y="5334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638680" y="4724280"/>
              <a:ext cx="1752840" cy="2064600"/>
              <a:chOff x="5638680" y="4724280"/>
              <a:chExt cx="1752840" cy="2064600"/>
            </a:xfrm>
          </p:grpSpPr>
          <p:sp>
            <p:nvSpPr>
              <p:cNvPr id="177" name=""/>
              <p:cNvSpPr/>
              <p:nvPr/>
            </p:nvSpPr>
            <p:spPr>
              <a:xfrm>
                <a:off x="6095880" y="4724280"/>
                <a:ext cx="1295640" cy="206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e4a8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e4a8"/>
                    </a:solidFill>
                    <a:latin typeface="Arial"/>
                  </a:rPr>
                  <a:t>- 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8680" y="5181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268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4100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819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876920" y="2286000"/>
            <a:ext cx="2514600" cy="1143000"/>
            <a:chOff x="4876920" y="2286000"/>
            <a:chExt cx="2514600" cy="1143000"/>
          </a:xfrm>
        </p:grpSpPr>
        <p:sp>
          <p:nvSpPr>
            <p:cNvPr id="185" name=""/>
            <p:cNvSpPr/>
            <p:nvPr/>
          </p:nvSpPr>
          <p:spPr>
            <a:xfrm>
              <a:off x="4876920" y="2286000"/>
              <a:ext cx="2514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   - 3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2819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05520" y="3886200"/>
            <a:ext cx="838080" cy="1143000"/>
            <a:chOff x="5105520" y="3886200"/>
            <a:chExt cx="838080" cy="1143000"/>
          </a:xfrm>
        </p:grpSpPr>
        <p:sp>
          <p:nvSpPr>
            <p:cNvPr id="188" name=""/>
            <p:cNvSpPr/>
            <p:nvPr/>
          </p:nvSpPr>
          <p:spPr>
            <a:xfrm>
              <a:off x="5105520" y="3886200"/>
              <a:ext cx="761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1480" y="44197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94360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0 -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7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33920" y="5105520"/>
            <a:ext cx="2938680" cy="1262160"/>
            <a:chOff x="3733920" y="5105520"/>
            <a:chExt cx="2938680" cy="1262160"/>
          </a:xfrm>
        </p:grpSpPr>
        <p:sp>
          <p:nvSpPr>
            <p:cNvPr id="192" name=""/>
            <p:cNvSpPr/>
            <p:nvPr/>
          </p:nvSpPr>
          <p:spPr>
            <a:xfrm>
              <a:off x="3733920" y="5105520"/>
              <a:ext cx="22860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swer: </a:t>
              </a:r>
              <a:r>
                <a:rPr b="0" lang="en-US" sz="2800" spc="-1" strike="noStrike">
                  <a:solidFill>
                    <a:srgbClr val="00e4a8"/>
                  </a:solidFill>
                  <a:latin typeface="Arial"/>
                </a:rPr>
                <a:t> 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52600" y="5334120"/>
              <a:ext cx="72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5715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629400" y="4998960"/>
            <a:ext cx="1752120" cy="2064600"/>
            <a:chOff x="6629400" y="4998960"/>
            <a:chExt cx="1752120" cy="2064600"/>
          </a:xfrm>
        </p:grpSpPr>
        <p:sp>
          <p:nvSpPr>
            <p:cNvPr id="196" name=""/>
            <p:cNvSpPr/>
            <p:nvPr/>
          </p:nvSpPr>
          <p:spPr>
            <a:xfrm>
              <a:off x="7086240" y="56088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629400" y="4998960"/>
              <a:ext cx="1752120" cy="2064600"/>
              <a:chOff x="6629400" y="4998960"/>
              <a:chExt cx="1752120" cy="2064600"/>
            </a:xfrm>
          </p:grpSpPr>
          <p:sp>
            <p:nvSpPr>
              <p:cNvPr id="198" name=""/>
              <p:cNvSpPr/>
              <p:nvPr/>
            </p:nvSpPr>
            <p:spPr>
              <a:xfrm>
                <a:off x="7086240" y="4998960"/>
                <a:ext cx="1295280" cy="206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e4a8"/>
                    </a:solidFill>
                    <a:latin typeface="Arial"/>
                  </a:rPr>
                  <a:t>-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y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e4a8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9400" y="5456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wer of a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3360" y="2133360"/>
            <a:ext cx="1143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7242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2057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7432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(ab)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886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920" y="54864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y the exponent outside the () time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 inside the 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4648320"/>
            <a:ext cx="6858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1320" y="34290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a)(b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33526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aa)(bb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wer of a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33360" y="2361960"/>
            <a:ext cx="198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3124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2096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5943600"/>
            <a:ext cx="6858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505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11480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7432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447560" y="2209320"/>
            <a:ext cx="4935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07960" y="28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20968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828800" y="220968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71600" y="3657600"/>
            <a:ext cx="3084480" cy="1411200"/>
            <a:chOff x="1371600" y="3657600"/>
            <a:chExt cx="3084480" cy="1411200"/>
          </a:xfrm>
        </p:grpSpPr>
        <p:sp>
          <p:nvSpPr>
            <p:cNvPr id="228" name=""/>
            <p:cNvSpPr/>
            <p:nvPr/>
          </p:nvSpPr>
          <p:spPr>
            <a:xfrm>
              <a:off x="144792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40796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8288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657600"/>
              <a:ext cx="5331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322360" y="4383000"/>
              <a:ext cx="49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3733920"/>
              <a:ext cx="82440" cy="121896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742480" y="3733920"/>
              <a:ext cx="82440" cy="121896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16080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58128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252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2256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862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3434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12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724280" y="3809880"/>
            <a:ext cx="1371600" cy="1335240"/>
            <a:chOff x="4724280" y="3809880"/>
            <a:chExt cx="1371600" cy="1335240"/>
          </a:xfrm>
        </p:grpSpPr>
        <p:sp>
          <p:nvSpPr>
            <p:cNvPr id="248" name=""/>
            <p:cNvSpPr/>
            <p:nvPr/>
          </p:nvSpPr>
          <p:spPr>
            <a:xfrm>
              <a:off x="47242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4120" y="3809880"/>
              <a:ext cx="7617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33412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43000" y="5029200"/>
            <a:ext cx="3733920" cy="1563840"/>
            <a:chOff x="1143000" y="5029200"/>
            <a:chExt cx="3733920" cy="1563840"/>
          </a:xfrm>
        </p:grpSpPr>
        <p:sp>
          <p:nvSpPr>
            <p:cNvPr id="252" name=""/>
            <p:cNvSpPr/>
            <p:nvPr/>
          </p:nvSpPr>
          <p:spPr>
            <a:xfrm>
              <a:off x="1143000" y="5638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Rule 5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5257800"/>
              <a:ext cx="4935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550960" y="590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57800"/>
              <a:ext cx="76320" cy="12193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971800" y="5257800"/>
              <a:ext cx="76320" cy="12193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81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5181480"/>
              <a:ext cx="76212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114800" y="571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14400" y="5105520"/>
            <a:ext cx="678168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  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35053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2096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(4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5943600"/>
            <a:ext cx="6858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812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4191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25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29718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28954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66 - 467 #5, 6 - 36 even, 39,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oncept of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operties of exponents to 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mi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ression that is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429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0384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a constant and 1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7432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33920" y="2819520"/>
            <a:ext cx="2361960" cy="520560"/>
            <a:chOff x="3733920" y="2819520"/>
            <a:chExt cx="2361960" cy="520560"/>
          </a:xfrm>
        </p:grpSpPr>
        <p:sp>
          <p:nvSpPr>
            <p:cNvPr id="107" name=""/>
            <p:cNvSpPr/>
            <p:nvPr/>
          </p:nvSpPr>
          <p:spPr>
            <a:xfrm>
              <a:off x="4495680" y="28195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, -21,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920" y="30481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14800" y="4572000"/>
            <a:ext cx="4267080" cy="520560"/>
            <a:chOff x="4114800" y="4572000"/>
            <a:chExt cx="4267080" cy="520560"/>
          </a:xfrm>
        </p:grpSpPr>
        <p:sp>
          <p:nvSpPr>
            <p:cNvPr id="110" name=""/>
            <p:cNvSpPr/>
            <p:nvPr/>
          </p:nvSpPr>
          <p:spPr>
            <a:xfrm>
              <a:off x="4876920" y="45720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x, 4a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-7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800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2057400"/>
            <a:ext cx="232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ying,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343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property was appl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733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ying,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276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361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124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1148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(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-5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952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581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8006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vid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the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867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00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 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62520" y="3352680"/>
            <a:ext cx="685800" cy="1323000"/>
            <a:chOff x="3962520" y="3352680"/>
            <a:chExt cx="685800" cy="1323000"/>
          </a:xfrm>
        </p:grpSpPr>
        <p:sp>
          <p:nvSpPr>
            <p:cNvPr id="146" name=""/>
            <p:cNvSpPr/>
            <p:nvPr/>
          </p:nvSpPr>
          <p:spPr>
            <a:xfrm>
              <a:off x="3962520" y="3352680"/>
              <a:ext cx="685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4038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00600" y="3429000"/>
            <a:ext cx="1371600" cy="1323000"/>
            <a:chOff x="4800600" y="3429000"/>
            <a:chExt cx="1371600" cy="1323000"/>
          </a:xfrm>
        </p:grpSpPr>
        <p:grpSp>
          <p:nvGrpSpPr>
            <p:cNvPr id="149" name=""/>
            <p:cNvGrpSpPr/>
            <p:nvPr/>
          </p:nvGrpSpPr>
          <p:grpSpPr>
            <a:xfrm>
              <a:off x="5334120" y="3429000"/>
              <a:ext cx="838080" cy="1323000"/>
              <a:chOff x="5334120" y="3429000"/>
              <a:chExt cx="838080" cy="1323000"/>
            </a:xfrm>
          </p:grpSpPr>
          <p:sp>
            <p:nvSpPr>
              <p:cNvPr id="150" name=""/>
              <p:cNvSpPr/>
              <p:nvPr/>
            </p:nvSpPr>
            <p:spPr>
              <a:xfrm>
                <a:off x="533412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10080" y="3429000"/>
                <a:ext cx="76212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800600" y="3733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3:37:44Z</dcterms:created>
  <dc:creator>AAPS</dc:creator>
  <dc:description/>
  <dc:language>en-US</dc:language>
  <cp:lastModifiedBy>SCSCHOOLS</cp:lastModifiedBy>
  <dcterms:modified xsi:type="dcterms:W3CDTF">2011-02-11T19:14:52Z</dcterms:modified>
  <cp:revision>14</cp:revision>
  <dc:subject/>
  <dc:title>Multiplying and Dividing Monomials</dc:title>
</cp:coreProperties>
</file>